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93F-DD22-41F2-BAEC-03B90980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20F8-2D29-4181-B32F-5E20C222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697-90C7-44CA-90D3-DBC8BEF1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8DAB-D0FA-485B-BBFC-A663382C6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DB1D-A7B8-43C7-9A4B-5F5D2DE6E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CAE6-EA1A-430D-89B8-98EBD21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4BBA-0C35-4024-BD28-E959139D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1840-5CF9-436A-BF0B-B118FB73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40A5-F66E-4E25-98A2-8C5C43C0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98AE-2762-4B64-A8FC-C5411B8D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DA5-1409-4DA9-A62D-79F19105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EBC-5BA7-4D64-946F-299D1AC2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4D35-52F2-4EAF-8CBC-8E6095A7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3F88-DCD3-4B93-8FD7-CBAAB5F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1DF2-A9EC-4628-B670-F79BA469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6710-A35B-43A1-8C83-DC773F9F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69BE-BC39-4922-8047-3A9FD4E6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57F-2EF4-4FE7-BDC0-47AD6A4A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D123-3269-4B9B-B9B8-AAD5E31E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550-FED2-4049-ABC7-AB1C0D3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B76-6809-4A70-9A21-68817EBA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AF7-7B17-43CA-BA42-90954D09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B38-1649-4610-99EC-8F03FC7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45A-8172-474B-BA70-7718AD7B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33ED-8CA7-4453-B376-F2068AF0F7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3F0-72DB-48B4-8279-C267DB538D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av.rds.yahoo.com/_ylt=A0Je5XPifqJEKl8BY6qHBqMX;_ylu=X3oDMTBwanIybjRqBHBndANhdHdfaW1nX3Jlc3VsdARzZWMDc3I-/SIG=12kgtd342/EXP=1151586402/**http%3A//www.jeanne-sauve.cepeo.on.ca/societe/images/recyclage.gif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av.rds.yahoo.com/_ylt=A0Je5XE9f6JEpS0B94aHBqMX;_ylu=X3oDMTBwanIybjRqBHBndANhdHdfaW1nX3Jlc3VsdARzZWMDc3I-/SIG=123ma8s7r/EXP=1151586493/**http%3A//www.emagictricks.co.uk/images/Lp2859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av.rds.yahoo.com/_ylt=A0Je5XAPbqtEJYYBL1.HBqMX;_ylu=X3oDMTBwanIybjRqBHBndANhdHdfaW1nX3Jlc3VsdARzZWMDc3I-/SIG=11u4396fu/EXP=1152171919/**http%3A//www.ale-lyon.org/ImageEtiketNRJ.gif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av.rds.yahoo.com/_ylt=A0Je5XXacqtE.CYBt16HBqMX;_ylu=X3oDMTBwanIybjRqBHBndANhdHdfaW1nX3Jlc3VsdARzZWMDc3I-/SIG=12u3i6t66/EXP=1152173146/**http%3A//newsimg.bbc.co.uk/media/images/39114000/jpg/_39114577_petrol203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av.rds.yahoo.com/_ylt=A0Je5XJIc6tE1YcAWJ6HBqMX;_ylu=X3oDMTBwanIybjRqBHBndANhdHdfaW1nX3Jlc3VsdARzZWMDc3I-/SIG=12fppc03n/EXP=1152173256/**http%3A//www.ville-bondy.fr/environnement/image/poubelle1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5280" y="981000"/>
            <a:ext cx="560520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'environnemen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2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Exercice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vais au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e fois par sema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Ma mère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verre et l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énergie : nous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élé avant de sorti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ne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s la consommation d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jette mes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ans la poubel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2916360" y="1484280"/>
            <a:ext cx="381456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centre de recyc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2492280"/>
            <a:ext cx="2160720" cy="576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4000" y="3500280"/>
            <a:ext cx="2808360" cy="50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conomis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95640" y="4581360"/>
            <a:ext cx="180000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08360" y="5516640"/>
            <a:ext cx="201600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éch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00000" y="4005360"/>
            <a:ext cx="2376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éteign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evoirs : rédact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ponds aux questions pour écrire la réd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els sont les grands problèmes d’environnement en généra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’on peut faire pour protéger l’environne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-ce que tu fais à la mais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Qu’est ce que tu ne fais pa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(Qu’est-ce qu’il faudrait faire?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els sont les grands problèmes de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’effet de serre – les CF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 réchauffement de la planè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de l’ea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pluies acid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pollution atmosphér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es espèces en voie de disparition. Exemple: le pand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427640" y="5445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438800" y="5452920"/>
            <a:ext cx="1223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Durée de vie des deche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issé dans les rues ou mis en décharge, le déchet vit encore ! </a:t>
            </a:r>
            <a:r>
              <a:rPr b="0" lang="de-DE" sz="2400" spc="-1" strike="noStrike">
                <a:solidFill>
                  <a:srgbClr val="ffffff"/>
                </a:solidFill>
                <a:latin typeface="Comic Sans MS"/>
              </a:rPr>
              <a:t>La durée de vie d'un déchet dépend bien sûr de sa composition mais aussi des actions que nous faisons tous les jours.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e déchet qui pose le moins de problème, qui ne pollue pas et qui coûte le moins cher, c’est donc celui que l’on ne produit pas !!!!!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-6888240" y="18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6888240" y="1876320"/>
            <a:ext cx="5918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765000"/>
            <a:ext cx="85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570120" y="981000"/>
          <a:ext cx="546588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0120" y="981000"/>
                    <a:ext cx="546588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Les trois “R” de l’environne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dui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duire…la pollution…la consommation…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éutilis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éutiliser le / la / 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Recyc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 peut recycler le / la /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38088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u centre de recyclage,</a:t>
            </a:r>
            <a:br>
              <a:rPr sz="4000"/>
            </a:b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il y a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lastique, le polystyrè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 papier, le car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’aluminium, le f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p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Des containers pour les déchets organiq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Go to fullsize image"/>
          <p:cNvPicPr/>
          <p:nvPr/>
        </p:nvPicPr>
        <p:blipFill>
          <a:blip r:embed="rId1"/>
          <a:stretch/>
        </p:blipFill>
        <p:spPr>
          <a:xfrm>
            <a:off x="6877080" y="429264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o to fullsize image"/>
          <p:cNvPicPr/>
          <p:nvPr/>
        </p:nvPicPr>
        <p:blipFill>
          <a:blip r:embed="rId2"/>
          <a:stretch/>
        </p:blipFill>
        <p:spPr>
          <a:xfrm>
            <a:off x="3276720" y="5516640"/>
            <a:ext cx="1511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Qu’est-ce que tu fais pour protéger l’environnement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fais du recyclag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api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plast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 ver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e recycle les boîtes en mét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380360" y="213372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4797360"/>
            <a:ext cx="505080" cy="180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148360" y="2924280"/>
            <a:ext cx="3240000" cy="64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3573360"/>
            <a:ext cx="0" cy="18003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3429000"/>
            <a:ext cx="2016000" cy="3603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3789360"/>
            <a:ext cx="0" cy="1008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4076640"/>
            <a:ext cx="20160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4076640"/>
            <a:ext cx="0" cy="6476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4869000"/>
            <a:ext cx="0" cy="1873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6742080"/>
            <a:ext cx="1727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667640" y="6453360"/>
            <a:ext cx="71280" cy="2887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électricité. Par exemple j’éteins les lumières quand je quitte 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au. Par exemple, je ferme le robinet quand je me la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J’économise l’essence. Par exemple, j’utilise le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150920" cy="11206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708360" y="3716280"/>
            <a:ext cx="1152720" cy="1119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356000" y="5373720"/>
            <a:ext cx="1224000" cy="114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804000" y="5373720"/>
            <a:ext cx="1224000" cy="11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724360" y="580536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A la maison, nous…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ecyclons le papier et le ver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voyageons à pied et en bus souv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réduisons la consommation de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MA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ecyclons pas les canettes en aluminiu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e réutilisons pas les sacs en plastiq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ous n’éteignons pas les lumières quand nous sortons d’une piè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A ton avis, qu’est-ce qu’il </a:t>
            </a:r>
            <a:r>
              <a:rPr b="1" lang="en-GB" sz="4000" spc="-1" strike="noStrike">
                <a:solidFill>
                  <a:srgbClr val="e5ffff"/>
                </a:solidFill>
                <a:latin typeface="Perpetua Titling MT"/>
              </a:rPr>
              <a:t>faudrait</a:t>
            </a:r>
            <a:r>
              <a:rPr b="0" lang="en-GB" sz="4000" spc="-1" strike="noStrike">
                <a:solidFill>
                  <a:srgbClr val="e5ffff"/>
                </a:solidFill>
                <a:latin typeface="Perpetua Titling MT"/>
              </a:rPr>
              <a:t> faire pour plus proteger l’environnement 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A mon avis, il faudrait plus recycler tous les déch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l faudrait aussi économiser l’énergie en général: l’électricité et l’esse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a Terre n’est pas une poubelle ! Il ne faudrait pas jeter les déchets par ter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437000"/>
            <a:ext cx="720720" cy="684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27640" y="4437000"/>
            <a:ext cx="865080" cy="644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5950080"/>
            <a:ext cx="6667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12:41:04Z</dcterms:created>
  <dc:creator>Virginie Passerat</dc:creator>
  <dc:description/>
  <dc:language>en-US</dc:language>
  <cp:lastModifiedBy>Virginie Passerat</cp:lastModifiedBy>
  <dcterms:modified xsi:type="dcterms:W3CDTF">2006-07-12T12:54:57Z</dcterms:modified>
  <cp:revision>67</cp:revision>
  <dc:subject/>
  <dc:title>Slide 1</dc:title>
</cp:coreProperties>
</file>